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C52-0883-4E32-825D-66B40087D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3BE6-0274-41FD-94F4-CAE2FAE9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25F6-11CF-4F1D-8301-28FD28531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238-12C4-4D2E-B72F-DBD33E8DC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FFA-AF47-4157-806A-E549D084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D326C-67BB-46DC-BCBC-DB9D0E45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0CF4-40BB-4A7C-BAF7-AF89F60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177E-6C7E-42AC-809D-7D01E73A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189B-ECDF-4CF4-8BC1-C8203AC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27C7-092F-425E-BDB2-958E6D3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C8E5-0233-49BB-810B-63301563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8CD6-9414-48AB-877A-F25377C2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E80D-3162-42C6-9B26-F5C05E0F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0020-409D-45A6-8C2A-0FA9D19B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6D20-A735-408A-9B9B-37531ACEF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8C45-DB4A-4660-8F63-4F25361E5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C47F-1D99-4C21-B588-E49A15F2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A80-1B31-4CFC-BDE7-F016842F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426-BF75-4490-B01F-EADB391D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86A8-3627-4A20-B608-5C01EE94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0823-ADC6-4782-A841-BF083A2D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C4F-D097-4ADD-AEFE-3248D881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100-D0DA-49AE-A7D3-F3770DEB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AC5-1F63-48D7-9510-E3FC34A2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FFB4-52B3-425C-9A26-601B25508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07DF-A69C-49AB-B1E9-61ABCAF6E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ary Rocks: Digging Deeper (pg. U8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T 8, 8/28/0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rth Sci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Ro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ried deep = high pressur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reduction in s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filters through, leaves cement behi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os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 out ur phon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3 to txt me the correct answer will win a free hw pas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re’s the Q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organic sedimentary rocks made of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970-270-7489, txt now!!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arm-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3 types of sedimentary rock (discussed yesterday)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ive an example of ea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the words “compact” and “cement” mean to you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WB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cuss sedimentary rock classification and form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y knowledge of sedimentary rocks to situational 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dimentary Roc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y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diments combine, solidify into r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dst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ck Sa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 Types - Mat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nd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ck Sa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 Types - Defin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gments from other rocks, moved, depositi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emic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evaporates, minerals (crystals) precipita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mains of living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s - Clas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lower ar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ce shallow s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Sand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ean, shoreline, dese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 - Chemic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k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Limesto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ocation - Organ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ied deep undergrou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ts of former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ample: Co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wamps, Antarctic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2:57:55Z</dcterms:created>
  <dc:creator> </dc:creator>
  <dc:description/>
  <dc:language>en-US</dc:language>
  <cp:lastModifiedBy> </cp:lastModifiedBy>
  <dcterms:modified xsi:type="dcterms:W3CDTF">2009-08-28T15:07:20Z</dcterms:modified>
  <cp:revision>6</cp:revision>
  <dc:subject/>
  <dc:title>Sedimentary Rocks: Digging Deeper (pg. U8)</dc:title>
</cp:coreProperties>
</file>